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4DE8-1A2F-4D1D-A0E2-6F4AFB306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8683-DB4D-4FC6-8281-436845CAE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3E24-F987-447C-AF06-AA66569D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C239-F61E-4165-A536-0F1445652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1360-1634-441A-BB72-77990D4B9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42F4-2C53-4A56-97EF-765462956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4024-93C0-4487-B83D-299E906A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9703-B04A-4D80-980E-58F00C7E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56DF-7E59-4493-B325-C8CAADAA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6EE9-405E-423A-8554-33C2B64A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BB1E-ABCC-494E-BF5E-60FB4EFC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C61B-D8E8-4DC4-97BD-3AC292C6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8A2E-0C67-4B0D-BF23-663F5B84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F9A5-1204-4D02-A655-3AAEF893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A978-103B-44CA-AD01-B5BA9978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36FD-92E9-47EE-B922-B46D7E24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6A6E-802A-416D-819F-C61BC62B7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1AE8-27F3-46CD-B404-EE7EC7EC5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B16C-FF8B-48FC-91C1-9E74E867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8607-CA77-437C-9992-39F9AA49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A2E0-DB7F-468F-AD3D-F2184B89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485B-1BBF-4E02-A1DC-35B8D6AE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6372-0992-499D-8979-157DCBFA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9F17-C360-4880-95B6-1571D3E2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EDE2-C2A0-4D14-BB73-82304F34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E61F-D7C2-48A8-8BBC-44421F2BE57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5CE3-2068-4BFB-8921-0B835692023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560" y="234936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16000" y="4292280"/>
            <a:ext cx="78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5905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2005 Safety Report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4760" y="1916280"/>
            <a:ext cx="69292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6 countries supplied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147,351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06,51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4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96,052 jumps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12,6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64 Fatalities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3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0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47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160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Other’ Fatalities (44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423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with aircraf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from canopy 30m. over water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ment with Skyboar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AAD fire after fast, low turns.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4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8816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Fatalities – </a:t>
            </a:r>
            <a:br>
              <a:rPr sz="3600"/>
            </a:b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Largest Group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8560" y="2133720"/>
            <a:ext cx="707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0% (13)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11)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 (10) Low cutaway of 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m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Significant Figur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060280"/>
            <a:ext cx="7336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4 of the 64 fatalities (53%) (30 fatalities were exclud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% - 26 of 64 fatalities,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6% - 10 of the 64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84% - 54 of the 64 fatalities,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64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592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Trends &amp; Issu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741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almost one-third of fatalities in 2005 – AAD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aeaea"/>
                </a:solidFill>
                <a:latin typeface="Tahoma"/>
              </a:rPr>
              <a:t>Tandem - Sol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10.4% against all Solo jumps  in 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,565,870 Solo jumps – 581,000 Tand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1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 2 (3%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olo Fatalities 62 (97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066320" y="1915920"/>
            <a:ext cx="7543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5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contents –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6 For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ose countries who did not report for 2005 are earnestly requested to make a special effort to do so for 2006.  The compilation of data is to the benefit of the country gathering same, not just to IP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258920" y="62064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 and Appe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07-01-12T16:53:10Z</dcterms:modified>
  <cp:revision>40</cp:revision>
  <dc:subject/>
  <dc:title>SAFETY &amp; TRAINING FORUM 25 January 2003</dc:title>
</cp:coreProperties>
</file>