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3DDE-3DA6-40D0-91A7-BD4EB2DF9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8882B-1BAD-4494-A746-B5F2777FD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81F44-C982-43C3-ABFF-BA35075E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10CDE-4F60-4500-9F0A-5ED16074B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613FA-1B82-48B5-B1C3-AC3229001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0A30-136E-45A0-BD68-FB1DEDA49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8F38-959A-4C08-99D1-8DFEA153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720D-A3C3-45BA-A749-243C1507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7049-E4ED-4A94-B124-E9235C26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7EE5-B221-4DD0-ACDC-CA76506D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736D-9593-4D23-B8C9-26E438C6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C4FA-1B16-4EB6-BDA7-3BF57279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DDE72-A2D8-44F0-B76E-8F6C9710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0114-AD88-4A1C-B86F-F02EA717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B995-A98B-48CE-983D-3D03EEDB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311E-E19F-4C28-96A2-FC707E9E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A8B8-14F3-4F9D-931A-24D9C60A2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BBD7-21F8-41C0-82CE-D2EA46514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F6FC8-542F-48CC-BA52-8159B9FC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07320-4C6F-478F-98F8-33565E61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4AFE2-D58A-441B-B37F-C00C91BA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72804-0049-4374-85A3-AAFB5A1A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8C1C7-A4FC-4FD8-A7B1-9C943118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043CC-25C5-4A37-8AD9-30C7A7A2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BE7BA-F090-4190-A57F-C770B4BE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F2B7-17BE-464B-A5D1-EA02C9606E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5C48-4966-4110-A3C8-A5E78F5D28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TECHNICAL &amp; SAFETY COMMITTEE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353880"/>
            <a:ext cx="590544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2007 Safety Repor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41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222,629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837,831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8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1,509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,321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68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‘</a:t>
            </a: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Other’ Fatalities (5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Main Activation, too low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agged on Land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Hard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Reserve opened at Aircraft Door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040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2% (15 of 68) Other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% (7) Cutaway and no Reserve Deploy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98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917720"/>
            <a:ext cx="80024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2 of the 68 fatalities (47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4 of the 68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6 of the 68 fatalities (24%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5 of the 68 fatalities (81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5 of the 68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2 of the 68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Some Trends &amp; Issu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6 – 12%, appears to be a more apparent factor in recent years.  This may point to an ageing skydiving population or other factors may be involv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- 24% of fatalities in 2007 may have been avoided by the use of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Tandem - Sol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9.6% of all jumps, Tandem &amp; Solo jumps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2.2% in 2006; 10.4% in 200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624,395 Solo jumps – 598,234 Tand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5.5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2 (3%)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Solo Fatalities 66 (97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This report, along with 2007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Garamond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Information Notices (8) issued in 2008 by T &amp; S Committe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Form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Notes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AAD Survey 2008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Those countries who did not report for 2007 are earnestly requested to make a special effort to do so for 2008.  The compilation of data is to the benefit of the country gathering same, not only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59600" y="388800"/>
            <a:ext cx="1601640" cy="930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9-01-22T12:15:24Z</dcterms:modified>
  <cp:revision>56</cp:revision>
  <dc:subject/>
  <dc:title>SAFETY &amp; TRAINING FORUM 25 January 2003</dc:title>
</cp:coreProperties>
</file>