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1AFD8-7B02-4012-AB4C-82CE2EB66D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CAC36-BE91-449C-859A-9546F9ECF5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63F9-358B-42FF-BB26-0C77534CE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20B9-3884-4ECA-9FA5-DD303ABEC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0A07-7636-49F0-AE77-DB47FE8D6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BD65-D963-4A4E-8BB2-B34A90B39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BF215-0B5E-4C4E-8319-753F7B242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BAD4C-946D-4B64-BC76-B8F290C4D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87B65-BDA8-4D30-92B1-88A0CF46B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664A8-5BB6-4656-80F6-240EBE405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31FA8-D415-44CC-A7DD-A7F96D6F3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0645D-5DD8-4E23-8673-F3A510768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A41AB-4C87-448F-A676-7F13807AA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E8EF-09C6-4777-A6C6-586361483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16F24-8490-4D67-9657-A44AE86FD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EAB9B-1E04-44D3-BC7B-C24CE85D3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2514A-881A-4678-A0E3-CADD10347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00D26-FD54-480E-B21A-55CFC072F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49356-31E8-4D09-970B-046451C15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77298D-00EA-4392-8F87-AF1D785BC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4CB4C9-B47C-45A9-8E06-7847A0A27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C4B96F-5AE6-4D09-916E-EA4942119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924E33-4C35-4A36-A159-53E870ECF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80B453-BBF4-4EBA-8BDE-07D8E9865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6646-6275-48D0-886A-22935E7F0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C75DDA-3049-47F4-BC44-B8D40A3CA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01B092-7534-482B-B3D9-7EF0B8883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C85CA4-3538-49CC-A378-8CDE578F7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9E4BF5-3FAB-407C-BC09-EC473BC7B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E1FD53-925B-4A0D-B53D-BDB048773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AC6D66-5CA6-4F93-BD79-F1BE25A9F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2504CF-3BE4-4816-A70C-55FB07F12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039739-4EE8-47B7-B8CF-690912150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A3FEB5-4646-4AE3-A993-868D37B14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6A5BDA-BF3C-4F62-938D-B2E3A6472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A4AD-FA53-4C79-840C-E02AD17C6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4992BC-4076-4658-9F6D-575CFEFF7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CD7AA0-48FA-403C-A094-9E26EAD20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AC3B93-BE0E-4E04-8464-11BDDC104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3C446C-B656-47E1-AA7C-72149EFF3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4EDEE6-3E5D-481B-B86B-0DE6729FC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9E2C19-03C9-456B-86F1-C8006F3AE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D11AA5-19B5-4C1F-977D-6E5C3701F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814633-F0A3-4C63-81F1-86040C4BB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F57F5A-4B55-4860-8409-469E171F0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7224-BA31-4C75-ADE2-507C9EC62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E534-A046-48DC-9C60-7578714D4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1E46-CACC-469B-9A85-21184EC09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D172-E00D-4DDD-908D-543221CA8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EFD2-52A4-4BFB-B8EE-C4A255EE8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E440F-48DB-4DA9-B731-C248850513F1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61F4B-AAE7-4816-A1AE-31DE15D5342C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16E9E-167B-4AE7-8311-146E0DE1E1CE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429BF-6B7B-47AB-AB65-8DCD8EB498B1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ctangle 2" descr=""/>
          <p:cNvPicPr/>
          <p:nvPr/>
        </p:nvPicPr>
        <p:blipFill>
          <a:blip r:embed="rId1"/>
          <a:stretch/>
        </p:blipFill>
        <p:spPr>
          <a:xfrm>
            <a:off x="822240" y="1841400"/>
            <a:ext cx="8407440" cy="19558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2484000" y="3499920"/>
            <a:ext cx="6480360" cy="1584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logo_ipc_01_trait copie"/>
          <p:cNvPicPr/>
          <p:nvPr/>
        </p:nvPicPr>
        <p:blipFill>
          <a:blip r:embed="rId2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8" descr="logo_ipc_01_trait copie"/>
          <p:cNvPicPr/>
          <p:nvPr/>
        </p:nvPicPr>
        <p:blipFill>
          <a:blip r:embed="rId1"/>
          <a:stretch/>
        </p:blipFill>
        <p:spPr>
          <a:xfrm>
            <a:off x="7451640" y="549360"/>
            <a:ext cx="1230480" cy="86364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899640" y="1557360"/>
            <a:ext cx="7543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is report, along with this and Power Point presentation, has been sent by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e-mail to all respondents and to all other countries for which the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&amp;S Committee has e-mail addresses.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CDs are available to IPC Delegates and to Technical and Safety Officers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who request copies.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Tahoma"/>
              </a:rPr>
              <a:t>Distribution of Report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he CD has the following material -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4 Safety Survey Report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4 Safety Survey Report Power Point Presentation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5 Form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5 Notes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Information Notices (3) issued in 2015 by the IPC’s Technical &amp; Safety Committee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PPEAL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ose countries who did not report for 2014 are requested to make a special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effort to do so for 2015.  The compilation of data is to the benefit of the country gathering same,  and to the worldwide skydiving community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Text Box 10"/>
          <p:cNvSpPr/>
          <p:nvPr/>
        </p:nvSpPr>
        <p:spPr>
          <a:xfrm>
            <a:off x="147636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Title 1" descr=""/>
          <p:cNvPicPr/>
          <p:nvPr/>
        </p:nvPicPr>
        <p:blipFill>
          <a:blip r:embed="rId1"/>
          <a:stretch/>
        </p:blipFill>
        <p:spPr>
          <a:xfrm>
            <a:off x="450720" y="463680"/>
            <a:ext cx="8686800" cy="115704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68000" y="2133720"/>
            <a:ext cx="8280360" cy="3456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37 countries responded, from a possible approximately 85, a response rate of 44%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The response rate was similar to previous years and has been about this rate for the 27 years of the Safety Survey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Once again countries are encouraged to put in place systems for the collection of the type of data in this report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Such data is invaluable  - for use by parachuting organisations, dropzones, those involved in the areas of technical and safety matters, and when dealing with authorities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300" spc="-1" strike="noStrike">
                <a:solidFill>
                  <a:srgbClr val="04617b"/>
                </a:solidFill>
                <a:latin typeface="Arial Unicode MS"/>
              </a:rPr>
              <a:t>2014 Safety Report</a:t>
            </a:r>
            <a:endParaRPr b="0" lang="en-US" sz="43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69296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37 countries supplied dat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6,237,725 skydives were made b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1,314,867 jumpe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31 people were killed skydiv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these figures include Tandems; there were three Tandem fatalities in 2014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 Fatality per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201,207 Jumps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42,415  Jump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Picture 4" descr="logo_ipc_01_trait copie"/>
          <p:cNvPicPr/>
          <p:nvPr/>
        </p:nvPicPr>
        <p:blipFill>
          <a:blip r:embed="rId1"/>
          <a:stretch/>
        </p:blipFill>
        <p:spPr>
          <a:xfrm>
            <a:off x="7164360" y="404640"/>
            <a:ext cx="1513080" cy="114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04617b"/>
                </a:solidFill>
                <a:latin typeface="Arial Unicode MS"/>
              </a:rPr>
              <a:t>31 Fatalities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9912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3 Studen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(10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7 Intermediate   (23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1 Exper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(68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3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4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2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25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3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3" name="Picture 7" descr="logo_ipc_01_trait copie"/>
          <p:cNvPicPr/>
          <p:nvPr/>
        </p:nvPicPr>
        <p:blipFill>
          <a:blip r:embed="rId1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Other’ Fatalities (25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99640" y="1628640"/>
            <a:ext cx="69836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Fast Canopies - Intentional Fast Landing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6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Equipment Related Issu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Canopy Collision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Tandem Fataliti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3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Freefall Collision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2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Incorrect Emergency procedur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Reserve bridle entanglement with camera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helmet after unstable reserve activation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Medical Issue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Main malfunction, no action  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Low radical turn, high impact with water,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causing lung damage and death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 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Instability, no Main deployment, AAD activated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reserve, freebag caught on jumper, insufficient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height for reserve deployment, reserve lines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trapped under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jumper’s arm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 Unicode MS"/>
              </a:rPr>
              <a:t>  1           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700" spc="-1" strike="noStrike" u="sng">
                <a:solidFill>
                  <a:srgbClr val="000000"/>
                </a:solidFill>
                <a:uFillTx/>
                <a:latin typeface="Arial Unicode MS"/>
              </a:rPr>
              <a:t>Total  25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7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92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700" spc="-1" strike="noStrike">
                <a:solidFill>
                  <a:srgbClr val="04617b"/>
                </a:solidFill>
                <a:latin typeface="Arial Unicode MS"/>
              </a:rPr>
              <a:t>Fatalities – Largest Groups</a:t>
            </a:r>
            <a:endParaRPr b="0" lang="en-US" sz="37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991280" cy="38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Fast Canopies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6 - 19% of 3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Equipment relates issu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and Canopy Collision – each at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4 – 13% of 3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3 – 10% of 3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anopy handling issues, combined –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2 (39% of total fatalities, 31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0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10920" y="417600"/>
            <a:ext cx="618156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5000" spc="-1" strike="noStrike">
                <a:solidFill>
                  <a:srgbClr val="04617b"/>
                </a:solidFill>
                <a:latin typeface="Arial Unicode MS"/>
              </a:rPr>
              <a:t>Significant Figur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800244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43080" algn="ctr">
              <a:lnSpc>
                <a:spcPct val="80000"/>
              </a:lnSpc>
              <a:spcBef>
                <a:spcPts val="601"/>
              </a:spcBef>
              <a:buClr>
                <a:srgbClr val="e2d700"/>
              </a:buClr>
              <a:buSzPct val="8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F THE 31 FATALITI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20 (65%) appear to have occurred with the parachutist having at least one good parachute on his/her back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11 (35%) occurred after the successful deployment of the main parachute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5 (16%) might have been avoided by AAD use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23 (74%) appear to have been caused by human error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                </a:t>
            </a:r>
            <a:r>
              <a:rPr b="1" i="1" lang="en-IE" sz="1900" spc="-1" strike="noStrike" u="sng">
                <a:solidFill>
                  <a:srgbClr val="000000"/>
                </a:solidFill>
                <a:uFillTx/>
                <a:latin typeface="Arial Unicode MS"/>
              </a:rPr>
              <a:t>None of the 2014 Fatalities were First Jump Students</a:t>
            </a: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3" name="Picture 4" descr="logo_ipc_01_trait copie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10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4617b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71640" y="1990800"/>
            <a:ext cx="7416720" cy="37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ontinuing high percentage of fatalities, 12 (39% of 31) resulting from canopy handling, canopy control, and landing issu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Roughly similar percentage distribution of fatalities between Student/Intermediate/Expert as in previous years .  The category ‘Expert Skydiver’ continues to have the most fatalities, but it has the biggest numbers of jump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AAD and RSL  are both now widely use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6" name="Picture 5" descr="logo_ipc_01_trait copie"/>
          <p:cNvPicPr/>
          <p:nvPr/>
        </p:nvPicPr>
        <p:blipFill>
          <a:blip r:embed="rId1"/>
          <a:stretch/>
        </p:blipFill>
        <p:spPr>
          <a:xfrm>
            <a:off x="6877080" y="620640"/>
            <a:ext cx="1440000" cy="10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4617b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539640" y="2276640"/>
            <a:ext cx="8229600" cy="334152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s 19% of </a:t>
            </a:r>
            <a:r>
              <a:rPr b="1" lang="en-IE" sz="2400" spc="-1" strike="noStrike" u="sng">
                <a:solidFill>
                  <a:srgbClr val="000000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jumps, Tandem + Sol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,075,020 Solo jumps – 1,162,705 Tande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 3 ; Solo Fatalities 28 (31 total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9" name="Picture 4" descr="logo_ipc_01_trait copie"/>
          <p:cNvPicPr/>
          <p:nvPr/>
        </p:nvPicPr>
        <p:blipFill>
          <a:blip r:embed="rId1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16-01-14T20:42:49Z</dcterms:modified>
  <cp:revision>105</cp:revision>
  <dc:subject/>
  <dc:title>SAFETY &amp; TRAINING FORUM 25 January 2003</dc:title>
</cp:coreProperties>
</file>