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7A0A-EDA7-4BA0-9AFD-EF8C1E45E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8925-C237-4D56-90D5-439924BEF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5EA7-52D0-406F-BD6D-D6BBECE3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40DB-86D9-4F5E-ABC2-8901BAC5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52DC-F26C-459F-A5E1-018B3344C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F443-1898-4C50-9D9B-634A24D77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3099-953D-4C39-ABD6-9503F70A2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B5F1-FCCF-4597-84B4-89DEF4B9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FE79-6DE5-4953-8DB6-43638FD5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ACEC-FAE8-4195-9B2F-D761B422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940D-BEEF-4FEE-88BF-5A7CD1DD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1BD3-FD6B-494A-83B3-F24186B7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B99D-0A73-441D-868D-D8BA1DB6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5373-27F2-450E-8839-5DA32CC3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7D57-1927-46F9-9053-24939F61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2CCF-B72E-466C-B457-D7705BC1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6EFF-7BFB-4509-AF3E-30E81B97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61DB-6D77-41C2-BB22-94FC97E0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8B92-7A7F-48D9-8A3B-60C85D40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AE051-07BC-4B69-8B9F-27918DAE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796DF-5138-45ED-976E-BDC1B190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09182-5068-4A27-BF6B-1FEEEBBB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55E97-B841-4FEC-A955-29536F0B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53D68-7636-4DAC-9CEC-9BFF11D9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D9C8-4018-4F47-87FE-D66E0DF3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AA6A0-5DC5-40AB-B290-4B61D68A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1259C-0F46-403A-AB1A-33CBB078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096F0-DA73-4DED-9177-74FBE896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7B5B4-FF07-42CE-9B9E-96632CAC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0CF44-6B92-45C5-9839-41C9B2A3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114B4-FBDB-4E99-8FD7-BD7BC9E3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2B05D-03D7-4342-B2E2-2909A88D8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FABB8-3323-471E-82CF-D6782E8E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8E946-5770-405C-85EA-8E86F62D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A9EC1-B878-4BE6-82A2-4DF3A265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E8BA-456E-40EB-8A22-7C23D5FB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141B1-B28B-4E4F-A77C-7889A7CD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40D88-53B6-4B68-8459-1D403C72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3D2F2-AA5A-4C47-B416-49DF78FD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D4467-F914-4E20-9B3A-439B5F5D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B6548-48C9-4DEA-823C-EE01815B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4B5FF-D771-4FF3-887D-EC5F14AF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18F6F-0742-4C54-A002-F76FFCCE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CBE89-722A-4049-8606-171D36902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1481A-3604-4E39-8B06-2EF46B67F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CBC4-6EB8-4D70-9F72-2189CC19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00A1-E254-4A0B-9525-A47A2C53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BE62-1F17-4F34-B9C5-E39352EC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AA45-09F2-4809-BE68-BCB9107E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439C-52C2-45F8-8E65-74C03EB9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8050-FE8C-477B-B41A-95E5115AD07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5B7F-9433-4C81-8FEB-E4B6EA019F5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A84F-4164-4BAB-AF69-35D86D9A56E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9121-C0FE-4B27-8796-E566BECEFB5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2) issued in 2016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5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6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8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5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27,02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25,8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0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10,450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2,097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60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5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50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7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 pull, AAD fired and cut loop but  no reserve deployment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oot caught on line, cut away, reserve partly open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Spinning main, reserve deployed 800 ft., no cuta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Apparent incapacita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deflated at low altitude, structural failur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 – jumper over run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urbulence at low altitud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Wingsuit -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one wing not closed, vertical descent rate too low       1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to fire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50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12 - 2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7 – 12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d issu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6 – 1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9 (32% of total fatalities, 6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60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1 (68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48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6 (10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2 (70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Five of the 2015 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9 (32% of 60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7.6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55,873 Solo jumps – 1,171, 150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59 (60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7-01-17T21:11:37Z</dcterms:modified>
  <cp:revision>112</cp:revision>
  <dc:subject/>
  <dc:title>SAFETY &amp; TRAINING FORUM 25 January 2003</dc:title>
</cp:coreProperties>
</file>